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4A5-1D00-4FFF-989A-B7AA2820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3E5-9EF9-4887-AAC0-26A31521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6B11-ED1C-4CF9-8964-253A0EB0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811-84B2-4954-9DAD-660967EF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B1A-6900-4754-9C20-45FBC112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0E3-6845-49ED-8424-1E0B9685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E3E-EAC5-4CB2-B1FA-27A566A1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B05-9862-4925-A71A-1BB603C0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594-63F6-4722-A13A-58AEAC7D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B79-B8D9-4EC1-9739-63CF12F7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B1C-4481-4319-A45B-0F6D92B9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828-1642-4603-A010-0FE2C880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456C-E658-491B-BD1D-56B0177E8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Nicene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, the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aker of heaven and ear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all that is, seen and uns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Lor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only Son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ly begotte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from God, Light from L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rue God from true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gotten, not mad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one Being with the Fathe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him all thin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re m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us and for our sal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came down from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incarnate of the Holy Spirit and the Virgin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became truly hu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our sake he was cruc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der Pontius Pilat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suffered dea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accord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Scriptur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will come again in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judge the living and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is kingdom will have no 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the Holy Spir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ord, the giver of lif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proceeds from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ith the Father and the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s worshipped and glor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has spok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proph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believe in one holy catho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postolic Chur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cknowledge one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forgiveness of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ook for the resurr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de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of the world to come.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9 of 9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8:07:06Z</dcterms:created>
  <dc:creator>Anon Anon</dc:creator>
  <dc:description/>
  <dc:language>en-US</dc:language>
  <cp:lastModifiedBy>Anon Anon</cp:lastModifiedBy>
  <dcterms:modified xsi:type="dcterms:W3CDTF">2005-08-16T04:24:38Z</dcterms:modified>
  <cp:revision>26</cp:revision>
  <dc:subject/>
  <dc:title>Nicene Creed</dc:title>
</cp:coreProperties>
</file>